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mes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A66-6BF1-43AF-843E-DB6DDC9E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571-BAE2-439C-9F6A-34AFD519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125-B092-4ED5-8A2F-02A5CC17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651-F806-441C-83BD-40648324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AB0-5F47-4E72-9204-BD6BD927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052-28B5-4212-BE14-BA762E0C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F88-3DC5-473B-8DAD-77327627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AA2-8265-4FCA-8532-118D27E1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202-4117-408E-B2EA-9A0E0283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5AE-3BD6-45C7-88E9-7631772C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5A5-781C-4AD5-A3EC-245BDA82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2F8-D62B-4818-9146-C8222796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D20C-896D-42ED-9FE5-5989A3562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chimes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hzipup01.wav"/><Relationship Id="rId20" Type="http://schemas.openxmlformats.org/officeDocument/2006/relationships/audio" Target="../media/zapbig0g.wav"/><Relationship Id="rId21" Type="http://schemas.openxmlformats.org/officeDocument/2006/relationships/audio" Target="../media/jetflyby2.wav"/><Relationship Id="rId22" Type="http://schemas.openxmlformats.org/officeDocument/2006/relationships/audio" Target="../media/zapbig0g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jetflyby2.wav"/><Relationship Id="rId20" Type="http://schemas.openxmlformats.org/officeDocument/2006/relationships/audio" Target="../media/zapbig0g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zapbig0g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hzipup01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audio" Target="../media/zapbig0g.wav"/><Relationship Id="rId29" Type="http://schemas.openxmlformats.org/officeDocument/2006/relationships/audio" Target="../media/jetflyby2.wav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3440" y="1917720"/>
                <a:ext cx="76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28760" y="1566720"/>
                <a:ext cx="94140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25520" y="3043080"/>
                <a:ext cx="9255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24560" y="91296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39840" y="5183280"/>
                <a:ext cx="558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24560" y="192708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36560" y="464508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717560" y="5559480"/>
                <a:ext cx="505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03560" y="4741920"/>
                <a:ext cx="1008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178000" y="5504040"/>
                <a:ext cx="1009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87720" y="5145120"/>
                <a:ext cx="1063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71960" y="465444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103640" y="563400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66680" y="2050920"/>
                <a:ext cx="116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017720" y="465444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960" y="352260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246320" y="2016000"/>
                <a:ext cx="4698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244520" y="3048120"/>
                <a:ext cx="976320" cy="15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624560" y="18082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212840" y="514512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624560" y="296388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384200" y="4727520"/>
                <a:ext cx="6159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714680" y="5576760"/>
                <a:ext cx="5061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20760" y="1301760"/>
                <a:ext cx="561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 txBox="1"/>
          <p:nvPr/>
        </p:nvSpPr>
        <p:spPr>
          <a:xfrm>
            <a:off x="5775480" y="2276640"/>
            <a:ext cx="14954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r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46320" y="2133720"/>
            <a:ext cx="387360" cy="5619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665360" y="1592280"/>
                <a:ext cx="58104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3, 8 – 5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5, 8 – 6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303200" y="1566720"/>
                <a:ext cx="99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00320" y="3043080"/>
                <a:ext cx="9777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624560" y="91296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239840" y="5183280"/>
                <a:ext cx="558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624560" y="192708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36560" y="464508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17560" y="5559480"/>
                <a:ext cx="505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00240" y="1566720"/>
                <a:ext cx="120024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171440" y="3043080"/>
                <a:ext cx="12351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624560" y="91296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836640" y="5148360"/>
                <a:ext cx="838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624560" y="192708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25680" y="4645080"/>
                <a:ext cx="8953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77880" y="5559480"/>
                <a:ext cx="7858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09760" y="5106960"/>
                <a:ext cx="1346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579840" y="4737240"/>
                <a:ext cx="8413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608280" y="5624640"/>
                <a:ext cx="787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402080" y="4811760"/>
                <a:ext cx="1008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76880" y="5573880"/>
                <a:ext cx="1009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88040" y="5197320"/>
                <a:ext cx="1344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621480" y="472428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680160" y="5675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03200" y="1566720"/>
                <a:ext cx="99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00320" y="3043080"/>
                <a:ext cx="9777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624560" y="24256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33560" y="5162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24560" y="287820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244680" y="4606920"/>
                <a:ext cx="83844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268800" y="5548320"/>
                <a:ext cx="785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76960" y="1724040"/>
                <a:ext cx="557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446960" y="1714680"/>
                <a:ext cx="7826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383160" y="171612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7960" y="1576440"/>
                <a:ext cx="120348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876400" y="3024360"/>
                <a:ext cx="1260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93760" y="236700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089080" y="1596960"/>
                <a:ext cx="731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67080" y="1595520"/>
                <a:ext cx="503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43000" y="388764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075040" y="306864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32240" y="3111480"/>
                <a:ext cx="503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97000" y="1566720"/>
                <a:ext cx="99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230480" y="3043080"/>
                <a:ext cx="9777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624560" y="24256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833560" y="5162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624560" y="287820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355920" y="4606920"/>
                <a:ext cx="6145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81480" y="554832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730920" y="1714680"/>
                <a:ext cx="55872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952720" y="1576440"/>
                <a:ext cx="9939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903400" y="3006720"/>
                <a:ext cx="9972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49560" y="239400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44880" y="1623960"/>
                <a:ext cx="618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84720" y="1595520"/>
                <a:ext cx="502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043000" y="388764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75040" y="306864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352680" y="3103560"/>
                <a:ext cx="559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014720" y="5089680"/>
                <a:ext cx="1067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021280" y="4632480"/>
                <a:ext cx="8413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162400" y="554832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66840" y="1895400"/>
                <a:ext cx="896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560" y="3500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303200" y="1566720"/>
                <a:ext cx="99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325520" y="3043080"/>
                <a:ext cx="9255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624560" y="91296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266840" y="518328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624560" y="192708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36560" y="464508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98480" y="5595840"/>
                <a:ext cx="505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66840" y="1895400"/>
                <a:ext cx="89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9560" y="3500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00240" y="1566720"/>
                <a:ext cx="120024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325520" y="3043080"/>
                <a:ext cx="9255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624560" y="24256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833560" y="5162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624560" y="287820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327480" y="4606920"/>
                <a:ext cx="6714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268800" y="5521320"/>
                <a:ext cx="785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478560" y="1720800"/>
                <a:ext cx="7826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47960" y="1576440"/>
                <a:ext cx="120348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76400" y="3024360"/>
                <a:ext cx="1260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54320" y="244620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66920" y="1623960"/>
                <a:ext cx="619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55840" y="1622520"/>
                <a:ext cx="727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157480" y="3876840"/>
                <a:ext cx="730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57480" y="3059280"/>
                <a:ext cx="728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32240" y="3111480"/>
                <a:ext cx="503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971880" y="4697280"/>
                <a:ext cx="952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46680" y="5459400"/>
                <a:ext cx="954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997520" y="5110200"/>
                <a:ext cx="1009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78520" y="4637160"/>
                <a:ext cx="6732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010200" y="558792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14280" y="1984320"/>
                <a:ext cx="897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39800" y="472140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7360" y="358920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252440" y="1655640"/>
                <a:ext cx="9907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73320" y="3132000"/>
                <a:ext cx="925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4624560" y="172260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89280" y="521028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24560" y="287820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274920" y="469584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327480" y="5638680"/>
                <a:ext cx="561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78200" y="1555920"/>
                <a:ext cx="993600" cy="16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894040" y="3090960"/>
                <a:ext cx="9460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6080" y="1332000"/>
                <a:ext cx="506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314880" y="1684440"/>
                <a:ext cx="502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98520" y="472140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944880" y="4726080"/>
                <a:ext cx="1008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17880" y="5486400"/>
                <a:ext cx="1011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970520" y="513720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005520" y="4637160"/>
                <a:ext cx="6174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983200" y="561672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 txBox="1"/>
          <p:nvPr/>
        </p:nvSpPr>
        <p:spPr>
          <a:xfrm>
            <a:off x="5775480" y="2190600"/>
            <a:ext cx="1495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r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301760" y="2111400"/>
            <a:ext cx="387360" cy="5619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746360" y="936720"/>
                <a:ext cx="94284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41520" y="1593720"/>
                <a:ext cx="995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4280" y="1984320"/>
                <a:ext cx="897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739800" y="472140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040" y="358920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979560" y="1638360"/>
                <a:ext cx="93960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992160" y="3114720"/>
                <a:ext cx="925560" cy="15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624560" y="23716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467160" y="5442120"/>
                <a:ext cx="503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624560" y="352728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925800" y="495612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005360" y="5872320"/>
                <a:ext cx="5061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495600" y="1573200"/>
                <a:ext cx="120348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616200" y="3108240"/>
                <a:ext cx="94644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03360" y="1174680"/>
                <a:ext cx="561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25800" y="1728720"/>
                <a:ext cx="727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2198520" y="4721400"/>
            <a:ext cx="2379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775480" y="2840040"/>
            <a:ext cx="1495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r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481120" y="2058840"/>
            <a:ext cx="387360" cy="5619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909880" y="847800"/>
                <a:ext cx="8985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618240" y="1720800"/>
                <a:ext cx="5018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23960" y="3041640"/>
                <a:ext cx="94464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849320" y="248112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62280" y="1658880"/>
                <a:ext cx="618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857680" y="1611360"/>
                <a:ext cx="5029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725480" y="393876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725480" y="3122640"/>
                <a:ext cx="784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895480" y="3156120"/>
                <a:ext cx="559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4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1-18T14:08:43Z</dcterms:modified>
  <cp:revision>84</cp:revision>
  <dc:subject/>
  <dc:title>Slide 1</dc:title>
</cp:coreProperties>
</file>